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CD3-DB0F-4070-9627-2695C282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84D-F02F-4FA7-AC94-6A722D42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BA7-2607-4219-845D-CA20BF58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FA6-72E3-4EFB-B2CC-310C737C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DF2-83B1-440D-8EBE-2EAEDEC3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F1D-C81C-4D56-A262-0CB5399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9BB-FC7B-42AD-AEF3-1743ECE8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1D5-6E47-4409-9BF3-622070D7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27D-9CB0-4316-B5CC-D141A42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D47-B6F1-4139-BEB3-7A78BA3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19E-D275-4A21-A8CC-49C16318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DBF-2B7A-4D6E-95B3-2B63673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CDF-4A35-4B46-8E56-CAAD0E6A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AlHRmRpwss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4nahP_FVnM" TargetMode="External"/><Relationship Id="rId2" Type="http://schemas.openxmlformats.org/officeDocument/2006/relationships/hyperlink" Target="http://www.youtube.com/watch?v=Q4EBOE4pJyw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5WlAFh8pz8w" TargetMode="External"/><Relationship Id="rId2" Type="http://schemas.openxmlformats.org/officeDocument/2006/relationships/hyperlink" Target="http://www.youtube.com/watch?v=WCBXXRFVpqY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ExpJAECSL8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-1  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– quantity that has both a number and a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752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3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elsi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19810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#)     (un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2860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easurement is central to science, especially the experimental scient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819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if its important, we need to be careful and 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124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ccuracy vs.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429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thing these are the same.  In chemistry, its not true I tell y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038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ccuracy – how close the measure comes to the actu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419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Precision – how close a series of measurements are to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8006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hem, we want Both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1814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?  -Take your time!  Its not a ra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guide 1-3  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219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I – revised system (METRIC) –based on the multiples of 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6002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 scientists around the world use it.  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981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everyone is on the same page.  EX:  space/wrong cal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86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sic Unit of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47920" y="2743200"/>
          <a:ext cx="6476760" cy="2766960"/>
        </p:xfrm>
        <a:graphic>
          <a:graphicData uri="http://schemas.openxmlformats.org/drawingml/2006/table">
            <a:tbl>
              <a:tblPr/>
              <a:tblGrid>
                <a:gridCol w="2286000"/>
                <a:gridCol w="4190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er (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gram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vin (K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t of sub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e – (mo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dela (c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ic cur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efixes used to give size differences  EX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ilo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2952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o = 1000 times bigger tha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6002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i = 100 times smaller tha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1905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 = 1000 times smaller than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209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Volume (space that matter takes 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5146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ase unit is liter 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819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ss (how much matter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1240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ase unit is kil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3526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ss and weight are the same, right?  WRONG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657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 is the force of gravity on the MASS of th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9625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go to the moon, mass has not changed but weight has due to less gravit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572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emp (how hot or cold and object 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9528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elsius = scale sets freezing of water at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and boiling at 10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Kelvin – sets freezing of water at 27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K and boiling at 373°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3716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so has absolute zero (last/first spot on the sc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17524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convert from kelvin to celsius and vice versa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1337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+ 273     C = °K -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90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it of Energy (capacity to do work; produce he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971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joule =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352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alori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ntity of heat that raises the temp of 1 gram of pure water by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unit of measure for mass i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o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prefix means 100 times smaller than the base un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127080" y="1841400"/>
          <a:ext cx="914400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41400"/>
                    <a:ext cx="91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lo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t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lvin scale sets the boiling point of water at _____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127080" y="1841400"/>
          <a:ext cx="914400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41400"/>
                    <a:ext cx="91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3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of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rShape1"/>
          <p:cNvSpPr/>
          <p:nvPr/>
        </p:nvSpPr>
        <p:spPr>
          <a:xfrm rot="10800000">
            <a:off x="1163520" y="329544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guide 1-4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What is heavier, a pound of paper or a pound of ce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1752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nly difference is the volume of paper compared to c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981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nsi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= rate of the mass of an object to its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m /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6668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we talk about density, it depends only on the composition of a substance, not the size of the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2767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onship of density and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581280"/>
            <a:ext cx="6934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substance generally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reases as temp increa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e volume of a substance changes as the temp.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4495680"/>
            <a:ext cx="7467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RACTICE PROBLEM 3.1 #3 PAGE 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RACTICE PROBLEM 3.4 16 AND 17 PG 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RACTICE PROBLEM 3.10 46 AND 47 PG. 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curacy and Precisio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172200" cy="246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3657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Accuracy        Poor Accuracy        Poor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8862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eci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Good Precision       Poor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2670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rr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arison of the experimental value compared to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pted va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800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oiling point of water is 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ept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029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f we measure, it shows 99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eriment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257800"/>
            <a:ext cx="647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we know both experimental value and accepted value, we can calculat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Notation – used for every large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2952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y use it?  It is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ritten as a coefficient and 10 to a raise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057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602,000,000,000,000,000,000,000 = 6.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2438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 is 6.02 – coefficients have to be equal to 1 or greater and up to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12408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we can calculate it: (white bo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2,000,000,000,000,000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038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ule:  move decimal to the left until you get between 1 and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1-2 Chemistry and Review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295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the study of the composition of matter (anything that occupies space and has mass) and the changes matter undergo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90512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fects all aspects of life and most natural ev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209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areas of stu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590920"/>
            <a:ext cx="70866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chem – study of all chemicals with carbon i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organic chem – study of all chemicals without carbon in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chemistry – study of the processes taking place in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tical chem – study of the composition of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chem – area that deals with the mechanism, the rate and the energy transfer occurring when matter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ixtur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– physical blend of two or mo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2952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eterogeneous – composition is not uniform through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6765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Homogeneous – composition is uniform through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1440" y="2057400"/>
            <a:ext cx="31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called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51460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change – change that produces matter with a different composition than the original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200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hemical reac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– once or more substances change into one or more new subst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88620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actant – substance which is present at the start of th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duct – substance produced during th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472428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es to chemical change:  transfer of energy; change in color, production of gas, or production of a precipitate (solid which settles out of a liquid mix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onservation of Ma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– in any change, mass is conserved (no mass created nor destroy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38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ss in = mas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tudy of all chemicals containing carb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organic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tical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c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rShape1"/>
          <p:cNvSpPr/>
          <p:nvPr/>
        </p:nvSpPr>
        <p:spPr>
          <a:xfrm rot="10800000">
            <a:off x="253800" y="2755800"/>
            <a:ext cx="253800" cy="2541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rting substance in a chemical reaction i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pi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-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the narrowness of range of measu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127080" y="1830240"/>
          <a:ext cx="9144000" cy="15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830240"/>
                    <a:ext cx="9144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0:10:58Z</dcterms:created>
  <dc:creator>Farwell Area Schools</dc:creator>
  <dc:description/>
  <dc:language>en-US</dc:language>
  <cp:lastModifiedBy>Customer</cp:lastModifiedBy>
  <dcterms:modified xsi:type="dcterms:W3CDTF">2009-09-10T18:39:18Z</dcterms:modified>
  <cp:revision>30</cp:revision>
  <dc:subject/>
  <dc:title>Note Guide 1-1   Measurement</dc:title>
</cp:coreProperties>
</file>